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media/image7.jpeg" ContentType="image/jpeg"/>
  <Override PartName="/ppt/media/image4.pct" ContentType="image/x-pict"/>
  <Override PartName="/ppt/media/image5.pct" ContentType="image/x-pict"/>
  <Override PartName="/ppt/media/image6.jpeg" ContentType="image/jpeg"/>
  <Override PartName="/ppt/media/image8.png" ContentType="image/png"/>
  <Override PartName="/ppt/media/image9.pct" ContentType="image/x-pict"/>
  <Override PartName="/ppt/media/image10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15BA-9DD5-442D-ADAE-9F2FB341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6BF-03AE-4AEE-8C4B-BD3F1DB7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81A-C1FA-45F2-B7A3-DBCEAD57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C25B-9639-44C9-8190-491DFC9C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F077-416B-40CE-ABC9-1E64527F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0E7-8B68-44C0-A17B-586AAB6C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13E7-7863-432F-A358-0227D478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ACD-D05B-44D0-B64C-C41AA395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2FA-D797-47FD-AFFC-669278D7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D2C-98F8-4C90-A491-227ABCEC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147-7975-41A5-B367-83970AF4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5F8-2299-4EDE-9F75-2B321FA0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5118-E836-46E2-9C90-02AC8DBCA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sonic.net/~nbs/projects/anthro201/exper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pedigreequery.com/seabiscuit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pbs.org/wnet/soundandfury/film/index.html" TargetMode="Externa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techapps.net/interactives/pepperMoths.swf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Motivating Life Science Students with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05740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halkboard"/>
              </a:rPr>
              <a:t>Karen Benit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halkboard"/>
              </a:rPr>
              <a:t>Science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halkboard"/>
              </a:rPr>
              <a:t>Branciforte Middl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halkboard"/>
              </a:rPr>
              <a:t>Santa Cruz,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benitez@sccs.santacruz.k12.ca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Cell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yne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/14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2209680"/>
            <a:ext cx="6172200" cy="4343400"/>
          </a:xfrm>
          <a:prstGeom prst="ellipse">
            <a:avLst/>
          </a:prstGeom>
          <a:solidFill>
            <a:srgbClr val="d3fcff"/>
          </a:solidFill>
          <a:ln w="9360">
            <a:solidFill>
              <a:srgbClr val="0a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73440" y="3581280"/>
            <a:ext cx="1447920" cy="1219320"/>
          </a:xfrm>
          <a:prstGeom prst="donut">
            <a:avLst>
              <a:gd name="adj" fmla="val 25000"/>
            </a:avLst>
          </a:prstGeom>
          <a:solidFill>
            <a:srgbClr val="005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30640" y="3949560"/>
            <a:ext cx="546120" cy="470160"/>
          </a:xfrm>
          <a:custGeom>
            <a:avLst/>
            <a:gdLst/>
            <a:ahLst/>
            <a:rect l="l" t="t" r="r" b="b"/>
            <a:pathLst>
              <a:path w="344" h="296">
                <a:moveTo>
                  <a:pt x="48" y="152"/>
                </a:moveTo>
                <a:cubicBezTo>
                  <a:pt x="156" y="120"/>
                  <a:pt x="264" y="88"/>
                  <a:pt x="288" y="104"/>
                </a:cubicBezTo>
                <a:cubicBezTo>
                  <a:pt x="312" y="120"/>
                  <a:pt x="216" y="264"/>
                  <a:pt x="192" y="248"/>
                </a:cubicBezTo>
                <a:cubicBezTo>
                  <a:pt x="168" y="232"/>
                  <a:pt x="160" y="8"/>
                  <a:pt x="144" y="8"/>
                </a:cubicBezTo>
                <a:cubicBezTo>
                  <a:pt x="128" y="8"/>
                  <a:pt x="64" y="224"/>
                  <a:pt x="96" y="248"/>
                </a:cubicBezTo>
                <a:cubicBezTo>
                  <a:pt x="128" y="272"/>
                  <a:pt x="344" y="184"/>
                  <a:pt x="336" y="152"/>
                </a:cubicBezTo>
                <a:cubicBezTo>
                  <a:pt x="328" y="120"/>
                  <a:pt x="96" y="40"/>
                  <a:pt x="48" y="56"/>
                </a:cubicBezTo>
                <a:cubicBezTo>
                  <a:pt x="0" y="72"/>
                  <a:pt x="8" y="256"/>
                  <a:pt x="48" y="248"/>
                </a:cubicBezTo>
                <a:cubicBezTo>
                  <a:pt x="88" y="240"/>
                  <a:pt x="264" y="0"/>
                  <a:pt x="288" y="8"/>
                </a:cubicBezTo>
                <a:cubicBezTo>
                  <a:pt x="312" y="16"/>
                  <a:pt x="232" y="296"/>
                  <a:pt x="192" y="296"/>
                </a:cubicBezTo>
                <a:cubicBezTo>
                  <a:pt x="152" y="296"/>
                  <a:pt x="100" y="152"/>
                  <a:pt x="48" y="8"/>
                </a:cubicBezTo>
              </a:path>
            </a:pathLst>
          </a:custGeom>
          <a:noFill/>
          <a:ln w="9360">
            <a:solidFill>
              <a:srgbClr val="ff0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92560" y="3048120"/>
            <a:ext cx="914400" cy="304560"/>
          </a:xfrm>
          <a:prstGeom prst="flowChartTerminator">
            <a:avLst/>
          </a:prstGeom>
          <a:solidFill>
            <a:srgbClr val="a42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59440" y="3505320"/>
            <a:ext cx="533520" cy="228600"/>
          </a:xfrm>
          <a:prstGeom prst="flowChartTerminator">
            <a:avLst/>
          </a:prstGeom>
          <a:solidFill>
            <a:srgbClr val="a42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44640" y="4419720"/>
            <a:ext cx="609480" cy="228600"/>
          </a:xfrm>
          <a:prstGeom prst="flowChartTerminator">
            <a:avLst/>
          </a:prstGeom>
          <a:solidFill>
            <a:srgbClr val="a42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97320" y="5562720"/>
            <a:ext cx="685800" cy="228600"/>
          </a:xfrm>
          <a:prstGeom prst="flowChartTerminator">
            <a:avLst/>
          </a:prstGeom>
          <a:solidFill>
            <a:srgbClr val="a42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16240" y="6172200"/>
            <a:ext cx="304920" cy="22860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54720" y="4572000"/>
            <a:ext cx="152640" cy="22860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54520" y="2438280"/>
            <a:ext cx="152640" cy="152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96920" y="2895480"/>
            <a:ext cx="1067040" cy="4572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54e3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96920" y="3048120"/>
            <a:ext cx="990720" cy="457200"/>
          </a:xfrm>
          <a:prstGeom prst="blockArc">
            <a:avLst>
              <a:gd name="adj1" fmla="val 10136350"/>
              <a:gd name="adj2" fmla="val 663650"/>
              <a:gd name="adj3" fmla="val 28282"/>
            </a:avLst>
          </a:prstGeom>
          <a:solidFill>
            <a:srgbClr val="54e3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20960" y="3276720"/>
            <a:ext cx="1218960" cy="533160"/>
          </a:xfrm>
          <a:prstGeom prst="blockArc">
            <a:avLst>
              <a:gd name="adj1" fmla="val 9880976"/>
              <a:gd name="adj2" fmla="val 919024"/>
              <a:gd name="adj3" fmla="val 24083"/>
            </a:avLst>
          </a:prstGeom>
          <a:solidFill>
            <a:srgbClr val="54e3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25520" y="39625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54120" y="41911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809520" y="46483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800" y="4724280"/>
            <a:ext cx="763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4724280"/>
            <a:ext cx="759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3200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654520" y="259092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035400" y="3657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36576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368520" y="60958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578560" y="51814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682720" y="24382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5334120"/>
            <a:ext cx="152640" cy="75960"/>
          </a:xfrm>
          <a:prstGeom prst="flowChartConnector">
            <a:avLst/>
          </a:prstGeom>
          <a:solidFill>
            <a:srgbClr val="ff8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37080" y="4165560"/>
            <a:ext cx="825480" cy="863640"/>
          </a:xfrm>
          <a:custGeom>
            <a:avLst/>
            <a:gdLst/>
            <a:ahLst/>
            <a:rect l="l" t="t" r="r" b="b"/>
            <a:pathLst>
              <a:path w="520" h="544">
                <a:moveTo>
                  <a:pt x="224" y="304"/>
                </a:moveTo>
                <a:cubicBezTo>
                  <a:pt x="264" y="340"/>
                  <a:pt x="304" y="376"/>
                  <a:pt x="272" y="400"/>
                </a:cubicBezTo>
                <a:cubicBezTo>
                  <a:pt x="240" y="424"/>
                  <a:pt x="64" y="424"/>
                  <a:pt x="32" y="448"/>
                </a:cubicBezTo>
                <a:cubicBezTo>
                  <a:pt x="0" y="472"/>
                  <a:pt x="24" y="544"/>
                  <a:pt x="80" y="544"/>
                </a:cubicBezTo>
                <a:cubicBezTo>
                  <a:pt x="136" y="544"/>
                  <a:pt x="296" y="528"/>
                  <a:pt x="368" y="448"/>
                </a:cubicBezTo>
                <a:cubicBezTo>
                  <a:pt x="440" y="368"/>
                  <a:pt x="504" y="128"/>
                  <a:pt x="512" y="64"/>
                </a:cubicBezTo>
                <a:cubicBezTo>
                  <a:pt x="520" y="0"/>
                  <a:pt x="448" y="16"/>
                  <a:pt x="416" y="64"/>
                </a:cubicBezTo>
                <a:cubicBezTo>
                  <a:pt x="384" y="112"/>
                  <a:pt x="344" y="328"/>
                  <a:pt x="320" y="352"/>
                </a:cubicBezTo>
                <a:cubicBezTo>
                  <a:pt x="296" y="376"/>
                  <a:pt x="272" y="208"/>
                  <a:pt x="272" y="208"/>
                </a:cubicBezTo>
                <a:cubicBezTo>
                  <a:pt x="272" y="208"/>
                  <a:pt x="296" y="280"/>
                  <a:pt x="320" y="352"/>
                </a:cubicBezTo>
              </a:path>
            </a:pathLst>
          </a:custGeom>
          <a:solidFill>
            <a:srgbClr val="080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13400" y="3263760"/>
            <a:ext cx="774720" cy="901800"/>
          </a:xfrm>
          <a:custGeom>
            <a:avLst/>
            <a:gdLst/>
            <a:ahLst/>
            <a:rect l="l" t="t" r="r" b="b"/>
            <a:pathLst>
              <a:path w="488" h="568">
                <a:moveTo>
                  <a:pt x="320" y="440"/>
                </a:moveTo>
                <a:cubicBezTo>
                  <a:pt x="344" y="456"/>
                  <a:pt x="408" y="376"/>
                  <a:pt x="416" y="392"/>
                </a:cubicBezTo>
                <a:cubicBezTo>
                  <a:pt x="424" y="408"/>
                  <a:pt x="360" y="512"/>
                  <a:pt x="368" y="536"/>
                </a:cubicBezTo>
                <a:cubicBezTo>
                  <a:pt x="376" y="560"/>
                  <a:pt x="448" y="568"/>
                  <a:pt x="464" y="536"/>
                </a:cubicBezTo>
                <a:cubicBezTo>
                  <a:pt x="480" y="504"/>
                  <a:pt x="488" y="400"/>
                  <a:pt x="464" y="344"/>
                </a:cubicBezTo>
                <a:cubicBezTo>
                  <a:pt x="440" y="288"/>
                  <a:pt x="336" y="240"/>
                  <a:pt x="320" y="200"/>
                </a:cubicBezTo>
                <a:cubicBezTo>
                  <a:pt x="304" y="160"/>
                  <a:pt x="384" y="136"/>
                  <a:pt x="368" y="104"/>
                </a:cubicBezTo>
                <a:cubicBezTo>
                  <a:pt x="352" y="72"/>
                  <a:pt x="256" y="16"/>
                  <a:pt x="224" y="8"/>
                </a:cubicBezTo>
                <a:cubicBezTo>
                  <a:pt x="192" y="0"/>
                  <a:pt x="168" y="40"/>
                  <a:pt x="176" y="56"/>
                </a:cubicBezTo>
                <a:cubicBezTo>
                  <a:pt x="184" y="72"/>
                  <a:pt x="272" y="80"/>
                  <a:pt x="272" y="104"/>
                </a:cubicBezTo>
                <a:cubicBezTo>
                  <a:pt x="272" y="128"/>
                  <a:pt x="208" y="200"/>
                  <a:pt x="176" y="200"/>
                </a:cubicBezTo>
                <a:cubicBezTo>
                  <a:pt x="144" y="200"/>
                  <a:pt x="104" y="112"/>
                  <a:pt x="80" y="104"/>
                </a:cubicBezTo>
                <a:cubicBezTo>
                  <a:pt x="56" y="96"/>
                  <a:pt x="0" y="120"/>
                  <a:pt x="32" y="152"/>
                </a:cubicBezTo>
                <a:cubicBezTo>
                  <a:pt x="64" y="184"/>
                  <a:pt x="224" y="256"/>
                  <a:pt x="272" y="296"/>
                </a:cubicBezTo>
                <a:cubicBezTo>
                  <a:pt x="320" y="336"/>
                  <a:pt x="296" y="424"/>
                  <a:pt x="320" y="440"/>
                </a:cubicBezTo>
                <a:close/>
              </a:path>
            </a:pathLst>
          </a:custGeom>
          <a:solidFill>
            <a:srgbClr val="080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5920" y="3594240"/>
            <a:ext cx="317520" cy="76176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200" y="280"/>
                </a:moveTo>
                <a:cubicBezTo>
                  <a:pt x="152" y="296"/>
                  <a:pt x="104" y="312"/>
                  <a:pt x="104" y="280"/>
                </a:cubicBezTo>
                <a:cubicBezTo>
                  <a:pt x="104" y="248"/>
                  <a:pt x="200" y="128"/>
                  <a:pt x="200" y="88"/>
                </a:cubicBezTo>
                <a:cubicBezTo>
                  <a:pt x="200" y="48"/>
                  <a:pt x="136" y="0"/>
                  <a:pt x="104" y="40"/>
                </a:cubicBezTo>
                <a:cubicBezTo>
                  <a:pt x="72" y="80"/>
                  <a:pt x="16" y="256"/>
                  <a:pt x="8" y="328"/>
                </a:cubicBezTo>
                <a:cubicBezTo>
                  <a:pt x="0" y="400"/>
                  <a:pt x="24" y="464"/>
                  <a:pt x="56" y="472"/>
                </a:cubicBezTo>
                <a:cubicBezTo>
                  <a:pt x="88" y="480"/>
                  <a:pt x="176" y="392"/>
                  <a:pt x="200" y="376"/>
                </a:cubicBezTo>
              </a:path>
            </a:pathLst>
          </a:custGeom>
          <a:solidFill>
            <a:srgbClr val="080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876920"/>
            <a:ext cx="76320" cy="75960"/>
          </a:xfrm>
          <a:prstGeom prst="flowChartConnector">
            <a:avLst/>
          </a:prstGeom>
          <a:solidFill>
            <a:srgbClr val="e30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876920"/>
            <a:ext cx="76320" cy="75960"/>
          </a:xfrm>
          <a:prstGeom prst="flowChartConnector">
            <a:avLst/>
          </a:prstGeom>
          <a:solidFill>
            <a:srgbClr val="e30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724280"/>
            <a:ext cx="76320" cy="76320"/>
          </a:xfrm>
          <a:prstGeom prst="flowChartConnector">
            <a:avLst/>
          </a:prstGeom>
          <a:solidFill>
            <a:srgbClr val="e30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4495680"/>
            <a:ext cx="75960" cy="76320"/>
          </a:xfrm>
          <a:prstGeom prst="flowChartConnector">
            <a:avLst/>
          </a:prstGeom>
          <a:solidFill>
            <a:srgbClr val="e30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195264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209680"/>
            <a:ext cx="381240" cy="762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44956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219320" y="4572000"/>
            <a:ext cx="76176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07520" y="464832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97320" y="4648320"/>
            <a:ext cx="609840" cy="152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78720" y="236232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11520" y="2590920"/>
            <a:ext cx="457200" cy="761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8280" y="548640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311120" y="5334120"/>
            <a:ext cx="990720" cy="304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23760" y="582948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s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4648320"/>
            <a:ext cx="228600" cy="1143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1920" y="304812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16640" y="3276360"/>
            <a:ext cx="762120" cy="685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83800" y="533412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84160" y="4572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352680" y="4419720"/>
            <a:ext cx="609840" cy="304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49960" y="3352680"/>
            <a:ext cx="50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11520" y="3581280"/>
            <a:ext cx="990720" cy="533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4680" y="19432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892400" y="2133720"/>
            <a:ext cx="1066680" cy="7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743200"/>
            <a:ext cx="7010640" cy="3048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3581280"/>
            <a:ext cx="1447920" cy="1219320"/>
          </a:xfrm>
          <a:prstGeom prst="donut">
            <a:avLst>
              <a:gd name="adj" fmla="val 25000"/>
            </a:avLst>
          </a:prstGeom>
          <a:solidFill>
            <a:srgbClr val="005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30640" y="3949560"/>
            <a:ext cx="546120" cy="470160"/>
          </a:xfrm>
          <a:custGeom>
            <a:avLst/>
            <a:gdLst/>
            <a:ahLst/>
            <a:rect l="l" t="t" r="r" b="b"/>
            <a:pathLst>
              <a:path w="344" h="296">
                <a:moveTo>
                  <a:pt x="48" y="152"/>
                </a:moveTo>
                <a:cubicBezTo>
                  <a:pt x="156" y="120"/>
                  <a:pt x="264" y="88"/>
                  <a:pt x="288" y="104"/>
                </a:cubicBezTo>
                <a:cubicBezTo>
                  <a:pt x="312" y="120"/>
                  <a:pt x="216" y="264"/>
                  <a:pt x="192" y="248"/>
                </a:cubicBezTo>
                <a:cubicBezTo>
                  <a:pt x="168" y="232"/>
                  <a:pt x="160" y="8"/>
                  <a:pt x="144" y="8"/>
                </a:cubicBezTo>
                <a:cubicBezTo>
                  <a:pt x="128" y="8"/>
                  <a:pt x="64" y="224"/>
                  <a:pt x="96" y="248"/>
                </a:cubicBezTo>
                <a:cubicBezTo>
                  <a:pt x="128" y="272"/>
                  <a:pt x="344" y="184"/>
                  <a:pt x="336" y="152"/>
                </a:cubicBezTo>
                <a:cubicBezTo>
                  <a:pt x="328" y="120"/>
                  <a:pt x="96" y="40"/>
                  <a:pt x="48" y="56"/>
                </a:cubicBezTo>
                <a:cubicBezTo>
                  <a:pt x="0" y="72"/>
                  <a:pt x="8" y="256"/>
                  <a:pt x="48" y="248"/>
                </a:cubicBezTo>
                <a:cubicBezTo>
                  <a:pt x="88" y="240"/>
                  <a:pt x="264" y="0"/>
                  <a:pt x="288" y="8"/>
                </a:cubicBezTo>
                <a:cubicBezTo>
                  <a:pt x="312" y="16"/>
                  <a:pt x="232" y="296"/>
                  <a:pt x="192" y="296"/>
                </a:cubicBezTo>
                <a:cubicBezTo>
                  <a:pt x="152" y="296"/>
                  <a:pt x="100" y="152"/>
                  <a:pt x="48" y="8"/>
                </a:cubicBezTo>
              </a:path>
            </a:pathLst>
          </a:custGeom>
          <a:noFill/>
          <a:ln w="9360">
            <a:solidFill>
              <a:srgbClr val="ff0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92560" y="3048120"/>
            <a:ext cx="914400" cy="304560"/>
          </a:xfrm>
          <a:prstGeom prst="flowChartTerminator">
            <a:avLst/>
          </a:prstGeom>
          <a:solidFill>
            <a:srgbClr val="a42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44640" y="4419720"/>
            <a:ext cx="609480" cy="228600"/>
          </a:xfrm>
          <a:prstGeom prst="flowChartTerminator">
            <a:avLst/>
          </a:prstGeom>
          <a:solidFill>
            <a:srgbClr val="a42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5562720"/>
            <a:ext cx="304920" cy="22860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96920" y="2895480"/>
            <a:ext cx="1067040" cy="4572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54e3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96920" y="3048120"/>
            <a:ext cx="990720" cy="457200"/>
          </a:xfrm>
          <a:prstGeom prst="blockArc">
            <a:avLst>
              <a:gd name="adj1" fmla="val 10136350"/>
              <a:gd name="adj2" fmla="val 663650"/>
              <a:gd name="adj3" fmla="val 28282"/>
            </a:avLst>
          </a:prstGeom>
          <a:solidFill>
            <a:srgbClr val="54e3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20960" y="3276720"/>
            <a:ext cx="1218960" cy="533160"/>
          </a:xfrm>
          <a:prstGeom prst="blockArc">
            <a:avLst>
              <a:gd name="adj1" fmla="val 9880976"/>
              <a:gd name="adj2" fmla="val 919024"/>
              <a:gd name="adj3" fmla="val 24083"/>
            </a:avLst>
          </a:prstGeom>
          <a:solidFill>
            <a:srgbClr val="54e3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225520" y="39625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454120" y="41911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809880" y="55623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5920" y="3594240"/>
            <a:ext cx="317520" cy="76176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200" y="280"/>
                </a:moveTo>
                <a:cubicBezTo>
                  <a:pt x="152" y="296"/>
                  <a:pt x="104" y="312"/>
                  <a:pt x="104" y="280"/>
                </a:cubicBezTo>
                <a:cubicBezTo>
                  <a:pt x="104" y="248"/>
                  <a:pt x="200" y="128"/>
                  <a:pt x="200" y="88"/>
                </a:cubicBezTo>
                <a:cubicBezTo>
                  <a:pt x="200" y="48"/>
                  <a:pt x="136" y="0"/>
                  <a:pt x="104" y="40"/>
                </a:cubicBezTo>
                <a:cubicBezTo>
                  <a:pt x="72" y="80"/>
                  <a:pt x="16" y="256"/>
                  <a:pt x="8" y="328"/>
                </a:cubicBezTo>
                <a:cubicBezTo>
                  <a:pt x="0" y="400"/>
                  <a:pt x="24" y="464"/>
                  <a:pt x="56" y="472"/>
                </a:cubicBezTo>
                <a:cubicBezTo>
                  <a:pt x="88" y="480"/>
                  <a:pt x="176" y="392"/>
                  <a:pt x="200" y="376"/>
                </a:cubicBezTo>
              </a:path>
            </a:pathLst>
          </a:custGeom>
          <a:solidFill>
            <a:srgbClr val="080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195264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ff00"/>
                </a:solidFill>
                <a:latin typeface="Arial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2209680"/>
            <a:ext cx="381240" cy="762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44956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ff00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19320" y="4572000"/>
            <a:ext cx="76176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78720" y="236232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ff00"/>
                </a:solidFill>
                <a:latin typeface="Arial"/>
              </a:rPr>
              <a:t>Smooth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590920"/>
            <a:ext cx="457200" cy="761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3040" y="51814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84160" y="4572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4680" y="19432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ff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352680" y="4419720"/>
            <a:ext cx="609840" cy="304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590920"/>
            <a:ext cx="7467480" cy="0"/>
          </a:xfrm>
          <a:prstGeom prst="line">
            <a:avLst/>
          </a:prstGeom>
          <a:ln w="38160">
            <a:solidFill>
              <a:srgbClr val="0a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2590920"/>
            <a:ext cx="0" cy="3429000"/>
          </a:xfrm>
          <a:prstGeom prst="line">
            <a:avLst/>
          </a:prstGeom>
          <a:ln w="38160">
            <a:solidFill>
              <a:srgbClr val="0a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6019920"/>
            <a:ext cx="7467480" cy="0"/>
          </a:xfrm>
          <a:prstGeom prst="line">
            <a:avLst/>
          </a:prstGeom>
          <a:ln w="38160">
            <a:solidFill>
              <a:srgbClr val="0a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1880" y="2590920"/>
            <a:ext cx="0" cy="3429000"/>
          </a:xfrm>
          <a:prstGeom prst="line">
            <a:avLst/>
          </a:prstGeom>
          <a:ln w="38160">
            <a:solidFill>
              <a:srgbClr val="0a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2209680"/>
            <a:ext cx="228600" cy="533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9040" y="640080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ff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048120" y="6019920"/>
            <a:ext cx="0" cy="380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2895480"/>
            <a:ext cx="2590920" cy="274320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2743200"/>
              <a:gd name="textAreaBottom" fmla="*/ 2616840 h 2743200"/>
            </a:gdLst>
            <a:ahLst/>
            <a:rect l="textAreaLeft" t="textAreaTop" r="textAreaRight" b="textAreaBottom"/>
            <a:pathLst>
              <a:path w="21600" h="22869">
                <a:moveTo>
                  <a:pt x="3600" y="0"/>
                </a:moveTo>
                <a:arcTo wR="3600" hR="3600" stAng="16200000" swAng="-5400000"/>
                <a:lnTo>
                  <a:pt x="0" y="19269"/>
                </a:lnTo>
                <a:arcTo wR="3600" hR="3600" stAng="10800000" swAng="-5400000"/>
                <a:lnTo>
                  <a:pt x="18000" y="22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59440" y="3505320"/>
            <a:ext cx="533520" cy="228600"/>
          </a:xfrm>
          <a:prstGeom prst="flowChartTerminator">
            <a:avLst/>
          </a:prstGeom>
          <a:solidFill>
            <a:srgbClr val="a42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5334120"/>
            <a:ext cx="685800" cy="228600"/>
          </a:xfrm>
          <a:prstGeom prst="flowChartTerminator">
            <a:avLst/>
          </a:prstGeom>
          <a:solidFill>
            <a:srgbClr val="a42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4680" y="4343400"/>
            <a:ext cx="152640" cy="22860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2743200"/>
            <a:ext cx="152280" cy="15228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035400" y="3657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867280" y="5029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4191120"/>
            <a:ext cx="825480" cy="863640"/>
          </a:xfrm>
          <a:custGeom>
            <a:avLst/>
            <a:gdLst/>
            <a:ahLst/>
            <a:rect l="l" t="t" r="r" b="b"/>
            <a:pathLst>
              <a:path w="520" h="544">
                <a:moveTo>
                  <a:pt x="224" y="304"/>
                </a:moveTo>
                <a:cubicBezTo>
                  <a:pt x="264" y="340"/>
                  <a:pt x="304" y="376"/>
                  <a:pt x="272" y="400"/>
                </a:cubicBezTo>
                <a:cubicBezTo>
                  <a:pt x="240" y="424"/>
                  <a:pt x="64" y="424"/>
                  <a:pt x="32" y="448"/>
                </a:cubicBezTo>
                <a:cubicBezTo>
                  <a:pt x="0" y="472"/>
                  <a:pt x="24" y="544"/>
                  <a:pt x="80" y="544"/>
                </a:cubicBezTo>
                <a:cubicBezTo>
                  <a:pt x="136" y="544"/>
                  <a:pt x="296" y="528"/>
                  <a:pt x="368" y="448"/>
                </a:cubicBezTo>
                <a:cubicBezTo>
                  <a:pt x="440" y="368"/>
                  <a:pt x="504" y="128"/>
                  <a:pt x="512" y="64"/>
                </a:cubicBezTo>
                <a:cubicBezTo>
                  <a:pt x="520" y="0"/>
                  <a:pt x="448" y="16"/>
                  <a:pt x="416" y="64"/>
                </a:cubicBezTo>
                <a:cubicBezTo>
                  <a:pt x="384" y="112"/>
                  <a:pt x="344" y="328"/>
                  <a:pt x="320" y="352"/>
                </a:cubicBezTo>
                <a:cubicBezTo>
                  <a:pt x="296" y="376"/>
                  <a:pt x="272" y="208"/>
                  <a:pt x="272" y="208"/>
                </a:cubicBezTo>
                <a:cubicBezTo>
                  <a:pt x="272" y="208"/>
                  <a:pt x="296" y="280"/>
                  <a:pt x="320" y="352"/>
                </a:cubicBezTo>
              </a:path>
            </a:pathLst>
          </a:custGeom>
          <a:solidFill>
            <a:srgbClr val="080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13400" y="3263760"/>
            <a:ext cx="774720" cy="901800"/>
          </a:xfrm>
          <a:custGeom>
            <a:avLst/>
            <a:gdLst/>
            <a:ahLst/>
            <a:rect l="l" t="t" r="r" b="b"/>
            <a:pathLst>
              <a:path w="488" h="568">
                <a:moveTo>
                  <a:pt x="320" y="440"/>
                </a:moveTo>
                <a:cubicBezTo>
                  <a:pt x="344" y="456"/>
                  <a:pt x="408" y="376"/>
                  <a:pt x="416" y="392"/>
                </a:cubicBezTo>
                <a:cubicBezTo>
                  <a:pt x="424" y="408"/>
                  <a:pt x="360" y="512"/>
                  <a:pt x="368" y="536"/>
                </a:cubicBezTo>
                <a:cubicBezTo>
                  <a:pt x="376" y="560"/>
                  <a:pt x="448" y="568"/>
                  <a:pt x="464" y="536"/>
                </a:cubicBezTo>
                <a:cubicBezTo>
                  <a:pt x="480" y="504"/>
                  <a:pt x="488" y="400"/>
                  <a:pt x="464" y="344"/>
                </a:cubicBezTo>
                <a:cubicBezTo>
                  <a:pt x="440" y="288"/>
                  <a:pt x="336" y="240"/>
                  <a:pt x="320" y="200"/>
                </a:cubicBezTo>
                <a:cubicBezTo>
                  <a:pt x="304" y="160"/>
                  <a:pt x="384" y="136"/>
                  <a:pt x="368" y="104"/>
                </a:cubicBezTo>
                <a:cubicBezTo>
                  <a:pt x="352" y="72"/>
                  <a:pt x="256" y="16"/>
                  <a:pt x="224" y="8"/>
                </a:cubicBezTo>
                <a:cubicBezTo>
                  <a:pt x="192" y="0"/>
                  <a:pt x="168" y="40"/>
                  <a:pt x="176" y="56"/>
                </a:cubicBezTo>
                <a:cubicBezTo>
                  <a:pt x="184" y="72"/>
                  <a:pt x="272" y="80"/>
                  <a:pt x="272" y="104"/>
                </a:cubicBezTo>
                <a:cubicBezTo>
                  <a:pt x="272" y="128"/>
                  <a:pt x="208" y="200"/>
                  <a:pt x="176" y="200"/>
                </a:cubicBezTo>
                <a:cubicBezTo>
                  <a:pt x="144" y="200"/>
                  <a:pt x="104" y="112"/>
                  <a:pt x="80" y="104"/>
                </a:cubicBezTo>
                <a:cubicBezTo>
                  <a:pt x="56" y="96"/>
                  <a:pt x="0" y="120"/>
                  <a:pt x="32" y="152"/>
                </a:cubicBezTo>
                <a:cubicBezTo>
                  <a:pt x="64" y="184"/>
                  <a:pt x="224" y="256"/>
                  <a:pt x="272" y="296"/>
                </a:cubicBezTo>
                <a:cubicBezTo>
                  <a:pt x="320" y="336"/>
                  <a:pt x="296" y="424"/>
                  <a:pt x="320" y="440"/>
                </a:cubicBezTo>
                <a:close/>
              </a:path>
            </a:pathLst>
          </a:custGeom>
          <a:solidFill>
            <a:srgbClr val="080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07520" y="464832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97320" y="4648320"/>
            <a:ext cx="609840" cy="152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5400" y="556272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ff00"/>
                </a:solidFill>
                <a:latin typeface="Arial"/>
              </a:rPr>
              <a:t>Ves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4495680"/>
            <a:ext cx="228600" cy="1143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21920" y="304812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416640" y="3276360"/>
            <a:ext cx="762120" cy="685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9960" y="3352680"/>
            <a:ext cx="50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495680" y="3581280"/>
            <a:ext cx="990720" cy="533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4876920"/>
            <a:ext cx="76320" cy="75960"/>
          </a:xfrm>
          <a:prstGeom prst="flowChartConnector">
            <a:avLst/>
          </a:prstGeom>
          <a:solidFill>
            <a:srgbClr val="e30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4876920"/>
            <a:ext cx="76320" cy="75960"/>
          </a:xfrm>
          <a:prstGeom prst="flowChartConnector">
            <a:avLst/>
          </a:prstGeom>
          <a:solidFill>
            <a:srgbClr val="e30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4724280"/>
            <a:ext cx="76320" cy="76320"/>
          </a:xfrm>
          <a:prstGeom prst="flowChartConnector">
            <a:avLst/>
          </a:prstGeom>
          <a:solidFill>
            <a:srgbClr val="e30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4495680"/>
            <a:ext cx="75960" cy="76320"/>
          </a:xfrm>
          <a:prstGeom prst="flowChartConnector">
            <a:avLst/>
          </a:prstGeom>
          <a:solidFill>
            <a:srgbClr val="e30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365760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50720" y="628668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ff00"/>
                </a:solidFill>
                <a:latin typeface="Arial"/>
              </a:rPr>
              <a:t>Large 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477120" y="5409720"/>
            <a:ext cx="228600" cy="8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5181480"/>
            <a:ext cx="762120" cy="228600"/>
          </a:xfrm>
          <a:prstGeom prst="flowChartTerminator">
            <a:avLst/>
          </a:prstGeom>
          <a:solidFill>
            <a:srgbClr val="2899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5105520"/>
            <a:ext cx="838080" cy="228600"/>
          </a:xfrm>
          <a:prstGeom prst="flowChartTerminator">
            <a:avLst/>
          </a:prstGeom>
          <a:solidFill>
            <a:srgbClr val="2899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3962520"/>
            <a:ext cx="838440" cy="228600"/>
          </a:xfrm>
          <a:prstGeom prst="flowChartTerminator">
            <a:avLst/>
          </a:prstGeom>
          <a:solidFill>
            <a:srgbClr val="2899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4267080"/>
            <a:ext cx="762120" cy="228600"/>
          </a:xfrm>
          <a:prstGeom prst="flowChartTerminator">
            <a:avLst/>
          </a:prstGeom>
          <a:solidFill>
            <a:srgbClr val="2899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218960" y="5334120"/>
            <a:ext cx="53316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880" y="617220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ff00"/>
                </a:solidFill>
                <a:latin typeface="Arial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chondria vs. 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loroplast is a part of the plant cell that uses light energy to make food for the plant. It’s only in plant cells, and it’s green in co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tochondria is a bean-shaped part that is in both animal and plant cells. It also makes energy for the cell. It takes body sugar and breaks it down into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Wall Vs.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s are a protective case found only in plant cells. They are made of tiny fibers and enclose the cell in a rectangular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ll membrane holds the organelles and keeps the cell’s shape. It’s in every cell and is made up of a double membrane of molec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ooth ER Vs. Rough 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mooth ER is a folded membrane that is connected to the nucleus. It makes lipids and helps get rid of chemicals and poi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3"/>
              </a:rPr>
              <a:t>_x0013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 ER is important for making proteins with rib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0574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16765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4880" y="23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3800" y="160020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89640" y="160020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02720" y="220968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2000" y="281952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88920" y="22096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89280" y="289548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Va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90000" y="365760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88920" y="43434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3. Smiley Face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tudents work in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Use a coin to determine tra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Use Microsoft word to draw 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r each trait collect data on how many students got the dominant or the recessive form of the ge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tudents then graph the class data including labels and a ke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66680" y="8380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594320" cy="59436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492800" y="380880"/>
            <a:ext cx="4651200" cy="6019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0" y="228600"/>
            <a:ext cx="0" cy="6019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746360" y="1398600"/>
          <a:ext cx="5651280" cy="45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1398600"/>
                    <a:ext cx="565128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Smiley Face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Presenter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64832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Single Subject Biology credential (SJS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Masters in educational leadership (SJS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SVEF Teacher of the year (20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halkboard"/>
              </a:rPr>
              <a:t>Teaching experience</a:t>
            </a: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: 7th grade Life Science/8th grade Physical Science in both Title 1 and Program Improvement sch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Masters ARP studied the influence of technology on classroom achie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Smiley Face Class Data </a:t>
            </a:r>
            <a:br>
              <a:rPr sz="4400"/>
            </a:br>
            <a:r>
              <a:rPr b="0" lang="en-US" sz="2000" spc="-1" strike="noStrike">
                <a:solidFill>
                  <a:srgbClr val="808080"/>
                </a:solidFill>
                <a:latin typeface="Chalkboard"/>
              </a:rPr>
              <a:t>class of 32 students (can compare to 150 stud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90720" y="1676520"/>
          <a:ext cx="6858000" cy="4489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 Phen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ssive Phen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e sha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sha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r 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 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e 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e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r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ck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4. Punnett Square PP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is project is done after background assignments on Mendel, Punnett Squares, and basic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tudents write their own genetics word problems, create PPT presentations and present them to the class for other students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 Punnett Squa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685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9144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137160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2743200" cy="1339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791320" y="685800"/>
            <a:ext cx="289548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ish Wor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cean fish, black fish (B)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over grey fish (b). 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zygous black fish an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zygous recessive (true-breedi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y fish have baby fish. Fill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nett square and answer bo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the off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nett Square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133720" y="2895480"/>
          <a:ext cx="5257800" cy="2336760"/>
        </p:xfrm>
        <a:graphic>
          <a:graphicData uri="http://schemas.openxmlformats.org/drawingml/2006/table">
            <a:tbl>
              <a:tblPr/>
              <a:tblGrid>
                <a:gridCol w="2628720"/>
                <a:gridCol w="2629080"/>
              </a:tblGrid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286000" y="2209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2096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200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4343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31240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425124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31240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425124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nett Answer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43000" y="2133720"/>
          <a:ext cx="7391160" cy="365760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1600200"/>
                <a:gridCol w="1600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y 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ed Punnett wor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ulldogs, purple bulldogs are dominant (B) over yellow bulldogs (b).  Two bulldogs get married and have 4 puppies.  Three of the puppies are purple and one of the puppies is yellow.  What genotype are the parents?  Fill in the punnett square and answer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ldog Punnett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133720" y="2895480"/>
          <a:ext cx="5257800" cy="2336760"/>
        </p:xfrm>
        <a:graphic>
          <a:graphicData uri="http://schemas.openxmlformats.org/drawingml/2006/table">
            <a:tbl>
              <a:tblPr/>
              <a:tblGrid>
                <a:gridCol w="2628720"/>
                <a:gridCol w="2629080"/>
              </a:tblGrid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_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_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_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2666880" y="2895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2895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4083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43200" y="2286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3200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22543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ldog Answer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38080" y="1981080"/>
          <a:ext cx="7772400" cy="3581280"/>
        </p:xfrm>
        <a:graphic>
          <a:graphicData uri="http://schemas.openxmlformats.org/drawingml/2006/table">
            <a:tbl>
              <a:tblPr/>
              <a:tblGrid>
                <a:gridCol w="2057400"/>
                <a:gridCol w="2114280"/>
                <a:gridCol w="1963800"/>
                <a:gridCol w="16369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EETT Technology g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Enhancing Education Through Technology (EET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laptop, LCD projector, student laptop cart of 32 MacBook computers, wireless printer and internet, scanners and set of video came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12 teachers at my school site (teams of 3 teachers), 36 teachers in 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2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5. Mendel Pea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onic.net/~nbs/projects/anthro201/expe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is is an interactive pea experiment where you can breed your own hybrid pea pl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tudents create a poster of several generations of their pea plants and show the Punnett Squares explaining their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Chalkboard"/>
              </a:rPr>
              <a:t>6. Seabiscuit Pedigree Proj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halkboard"/>
                <a:hlinkClick r:id="rId1"/>
              </a:rPr>
              <a:t>http://www.pedigreequery.com/seabis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Prior to this assignment I have introduced the concept of pedigrees with several exampl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tudents research the pedigree of the racehorse Seabiscuit and create a pedigree chart following a particular trait (successful racing for 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Seabiscuit Pedigre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609560"/>
            <a:ext cx="1828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8080"/>
                </a:solidFill>
                <a:uFillTx/>
                <a:latin typeface="Arial"/>
              </a:rPr>
              <a:t>Ke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emale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Male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2133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905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297180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5181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bis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6483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76720" y="4191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396252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7242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19520" y="40384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3505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 O’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 Bis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971800" y="3276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1500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2971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172200" y="3200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3276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30481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04812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43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2133720"/>
            <a:ext cx="5105160" cy="8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uccessful Racing Female/Male (won more than $10,000)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2438280"/>
            <a:ext cx="1522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2438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562360" y="23623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1523880"/>
            <a:ext cx="5943600" cy="12193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ng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00800" y="3352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sk B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429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Cochlear Implant Pedigree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7720" y="2209320"/>
            <a:ext cx="7543800" cy="403884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is project is done at the end of the genetics unit after studying pedigrees and includes the topic of ethics in sc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tudents watch the </a:t>
            </a:r>
            <a:r>
              <a:rPr b="0" i="1" lang="en-US" sz="2400" spc="-1" strike="noStrike">
                <a:solidFill>
                  <a:srgbClr val="000000"/>
                </a:solidFill>
                <a:latin typeface="Chalkboard"/>
              </a:rPr>
              <a:t>Sound and Fury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documentary movie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halkboard"/>
                <a:hlinkClick r:id="rId1"/>
              </a:rPr>
              <a:t>http://www.pbs.org/wnet/soundandfury/film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tudents complete a three generation pedigree of the deaf family profiled in the mov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inally students write a persuasive essay advising the parents of a deaf infant on whether or not the cochlear implant is the right dec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Deaf Family Pedigre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19520" y="45720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4572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34120" y="4495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4495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3429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34120" y="3352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33920" y="20574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20574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33720" y="45720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14600" y="34290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53080" y="44956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33526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4114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81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588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038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864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057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5812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56272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29718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00600" y="2057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1480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9568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4852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934320" y="20574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629400" y="2286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5029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43200" y="495288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05320" y="5029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45924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33920" y="35053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495288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er s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1320" y="49831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5520" y="49831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34320" y="3429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3505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S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25146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S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48320" y="25146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a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638680" y="25146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05720" y="25146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1523880"/>
            <a:ext cx="1828800" cy="7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8080"/>
                </a:solidFill>
                <a:uFillTx/>
                <a:latin typeface="Arial"/>
              </a:rPr>
              <a:t>Ke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emale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Male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19320" y="2057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71600" y="1828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2057400"/>
            <a:ext cx="5105160" cy="8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Deaf Female/Male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ochlear Implant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0" y="2362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2362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514600" y="22860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4495680"/>
            <a:ext cx="380880" cy="38124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09680" y="25909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2590920"/>
            <a:ext cx="152640" cy="15228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1447920"/>
            <a:ext cx="2514600" cy="15238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69608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01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4380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8. Peppered Moth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halkboard"/>
                <a:hlinkClick r:id="rId1"/>
              </a:rPr>
              <a:t>http://www.techapps.net/interactives/pepperMoths.s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Volunteer students act as predatory birds preying on peppered moths.  The class collects data on moth survival rates for the pre and post pollution forest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tudents graph and analyze the data col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dditional assignments can include the life cycle of the moth and the history of the original experi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416640" cy="83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9. Plant iMovi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In groups, students grow plants (radishes) and record growth/weight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tudents take daily photos or video of plants on a daily basis in order to make visual record of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tudent graph/analyze data make iMovie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halkboard"/>
              </a:rPr>
              <a:t>Student Plant Mov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Macintosh HD:Users:karenbenitez:Desktop:student examples for CLMS:Plant_Norbert.mo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Masters Action Research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64832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Masters Cohort group included science, language arts and math teac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Technology was most successful in the science classro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Compared technology vs. non-technology assign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Completion rate (95% vs. 7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Average grade (15% better for tech. assign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Better behavior and more foc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Chalkboard"/>
              </a:rPr>
              <a:t>10. DNA Comic Life Newslett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tudents create a candy model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tudents use Comic Life software to create a newsletter explaining how they have discovered the structure of DNA.  The newsletter includes base pairing rules, the importance of DNA to living things, drawings and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981080" y="76320"/>
            <a:ext cx="51231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General Technology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04812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United Streaming- science mo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ttp://streaming.discoveryeducation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BrainPop - science mo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ww.brainpop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inkquest -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ocial networking fo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ttp://www.thinkquest.org/e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Technology in the classroom</a:t>
            </a: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64832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nitially, technology projects can take longer and/or be frustrating for the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eachers do not have to be the expert on every technology used in class, students can (and will) be the technology expe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Use technology to integrate Language Arts and math into science curricul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t up procedures, routines and clear rules and expectations for students, especially when technology needs to be shared across a school sit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1. Fire Alive Essay (ty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ncer and mitosis Essay (ty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. Cell 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3. Smiley Face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4. Punnett Square PPT (with gifted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5. Mendel Pea Website/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6. Pedigree - Seabiscuit website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7. Cochlear Implant Pedigree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8. Moth adaptation experiment/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9. Plant i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10. DNA Comic Li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Essays and Technolo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502920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ese essays involve both internet research and basic word processing, good beginning assignments to introduce students to comput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each students to check-in/check-out computers, turn on and access software, improve word processing, and spell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rain students how and where to save their work, print and/or turn in work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an be valuable for students with NO tech.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1. Ess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halkboard"/>
              </a:rPr>
              <a:t>Is Fire Alive?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is assignment is done after studying the 6 characteristics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halkboard"/>
              </a:rPr>
              <a:t>Cancer and Mitosis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is assignment is done after studying mitosis and creating a flipbook of the stages of mi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tudents can write in class/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ype final draft including spell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tagger due date of assignment with extra credit for turning in 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halkboard"/>
              </a:rPr>
              <a:t>2. Cell PowerPoint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solidFill>
            <a:srgbClr val="f3f7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s is a review assignment done at the end of the cells unit to prepare students for the unit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ombination of visual/graphic and written assignment will appeal to a variety of 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Use co-operative learn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tudents can present their projects to the class reinforc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02:52:00Z</dcterms:created>
  <dc:creator>Office 2004 Test Drive User</dc:creator>
  <dc:description/>
  <dc:language>en-US</dc:language>
  <cp:lastModifiedBy>Office 2004 Test Drive User</cp:lastModifiedBy>
  <cp:lastPrinted>2008-12-02T06:49:48Z</cp:lastPrinted>
  <dcterms:modified xsi:type="dcterms:W3CDTF">2008-12-05T17:37:40Z</dcterms:modified>
  <cp:revision>105</cp:revision>
  <dc:subject/>
  <dc:title>Motivating Life Science Students with Technology</dc:title>
</cp:coreProperties>
</file>